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5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wmf" ContentType="image/x-wmf"/>
  <Override PartName="/ppt/media/image9.png" ContentType="image/png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84543-FB67-48AD-A18B-A06B21C37B0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D77DE-7832-4A58-A6A3-A43A170A1677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27095-C7D0-47E5-B181-DA2C5F27A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77B6C-279E-4D63-A03E-42D7008C6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BDD9D-A6AC-4FC7-B3F1-F51AEE052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95669-F12D-4C6A-83D8-34675C9B4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21F67-C0F5-4C3E-AE90-C7C5EBD3F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1FA2F-7FE2-4FBF-AF2A-32E70F206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AE48E-4EAE-4225-BFE7-1250B7932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7512A-BA3A-4E3A-BC00-960A63848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2A994-C6DD-466A-A803-5B763CA69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3AFC8-8C26-4E32-9AF9-1ABD1534F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46818-0280-4082-8AA8-FA882F416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5083F-7D2E-492B-88CA-B35DDC3B5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9E064-11E0-4BBB-9FA9-0AB068131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415EE-1145-4EEC-83F3-313B35862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83977-8B7D-4794-ACAE-0C99BF386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B8ABE-CE13-4F4D-B647-FB56FFE08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9D4EB-F1A8-4632-8B44-49C7A44B1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8470D-9922-428C-8249-F158876C5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B5471-F566-482D-AFEB-DCF071FC0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D4AE1-DDE9-4BA4-8C4C-19905488E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CB127-E323-49E0-911D-4500FEE55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07B29-D29F-4328-A59B-92AB66ACF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3352D-28BF-4A07-AAE4-E58C98CC4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A8479-042F-49D9-AC08-3305CF093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765e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74059-17D1-477D-A862-0DAC82F4962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765e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35B5C-6E7F-4B2C-BF21-87FE00C3917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Box 1"/>
          <p:cNvSpPr/>
          <p:nvPr/>
        </p:nvSpPr>
        <p:spPr>
          <a:xfrm>
            <a:off x="2441880" y="457200"/>
            <a:ext cx="500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БОУ Бискамжинская СО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2"/>
          <p:cNvSpPr/>
          <p:nvPr/>
        </p:nvSpPr>
        <p:spPr>
          <a:xfrm>
            <a:off x="2218680" y="1773360"/>
            <a:ext cx="50652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УРОК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РУССКОГО ЯЗЫ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3 клас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3"/>
          <p:cNvSpPr/>
          <p:nvPr/>
        </p:nvSpPr>
        <p:spPr>
          <a:xfrm>
            <a:off x="5638680" y="5877000"/>
            <a:ext cx="307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Заковряжина Вера Борис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Учитель начальных клас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пишите глаголы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1" i="1" lang="ru-RU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Лечь, течь, беречь, стричь, стеречь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b05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50"/>
                </a:solidFill>
                <a:latin typeface="Arial"/>
              </a:rPr>
              <a:t>Запомните! В глаголах неопределённ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50"/>
                </a:solidFill>
                <a:latin typeface="Arial"/>
              </a:rPr>
              <a:t>формы после 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ч</a:t>
            </a:r>
            <a:r>
              <a:rPr b="1" i="1" lang="ru-RU" sz="2800" spc="-1" strike="noStrike">
                <a:solidFill>
                  <a:srgbClr val="00b050"/>
                </a:solidFill>
                <a:latin typeface="Arial"/>
              </a:rPr>
              <a:t> пишется мягкий знак (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ь</a:t>
            </a:r>
            <a:r>
              <a:rPr b="1" i="1" lang="ru-RU" sz="2800" spc="-1" strike="noStrike">
                <a:solidFill>
                  <a:srgbClr val="00b050"/>
                </a:solidFill>
                <a:latin typeface="Arial"/>
              </a:rPr>
              <a:t>): стри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чь</a:t>
            </a:r>
            <a:r>
              <a:rPr b="1" i="1" lang="ru-RU" sz="2800" spc="-1" strike="noStrike">
                <a:solidFill>
                  <a:srgbClr val="00b050"/>
                </a:solidFill>
                <a:latin typeface="Arial"/>
              </a:rPr>
              <a:t>, бере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чь</a:t>
            </a:r>
            <a:r>
              <a:rPr b="1" i="1" lang="ru-RU" sz="2800" spc="-1" strike="noStrike">
                <a:solidFill>
                  <a:srgbClr val="00b05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Box 2"/>
          <p:cNvSpPr/>
          <p:nvPr/>
        </p:nvSpPr>
        <p:spPr>
          <a:xfrm>
            <a:off x="900000" y="836640"/>
            <a:ext cx="748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Цель урок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научиться писать глаголы в неопределённой форме с мягким знаком после шипящих на конц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Прямоугольник 3"/>
          <p:cNvSpPr/>
          <p:nvPr/>
        </p:nvSpPr>
        <p:spPr>
          <a:xfrm>
            <a:off x="2268360" y="2133720"/>
            <a:ext cx="4530960" cy="17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стр. 74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Упр. 136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Упр. 13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Работа по учебник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роведём исследовани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Задай вопрос и распредели глаголы в 2 столби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ru-RU" sz="3600" spc="-1" strike="noStrike">
                <a:solidFill>
                  <a:srgbClr val="ffff00"/>
                </a:solidFill>
                <a:latin typeface="Arial"/>
              </a:rPr>
              <a:t>Звенеть, сберечь, почернеть, нести</a:t>
            </a:r>
            <a:r>
              <a:rPr b="0" i="1" lang="ru-RU" sz="36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94920" y="404640"/>
            <a:ext cx="8497800" cy="550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тог урок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-Какие отличительные черты неопределенной формы глагола знаем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- Какова была тема урок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-  Какая была цель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- Какие были трудности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-  Справились  мы с  затруднениями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4"/>
          <p:cNvSpPr/>
          <p:nvPr/>
        </p:nvSpPr>
        <p:spPr>
          <a:xfrm>
            <a:off x="0" y="441360"/>
            <a:ext cx="11207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ru-RU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Что нового узнали на уроке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9"/>
          <p:cNvSpPr/>
          <p:nvPr/>
        </p:nvSpPr>
        <p:spPr>
          <a:xfrm>
            <a:off x="3363840" y="37782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4"/>
          <p:cNvSpPr/>
          <p:nvPr/>
        </p:nvSpPr>
        <p:spPr>
          <a:xfrm>
            <a:off x="1816200" y="1413000"/>
            <a:ext cx="955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5"/>
          <p:cNvSpPr/>
          <p:nvPr/>
        </p:nvSpPr>
        <p:spPr>
          <a:xfrm>
            <a:off x="4411440" y="2282760"/>
            <a:ext cx="925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6"/>
          <p:cNvSpPr/>
          <p:nvPr/>
        </p:nvSpPr>
        <p:spPr>
          <a:xfrm>
            <a:off x="7020000" y="3068640"/>
            <a:ext cx="122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цени свою работу на урок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Содержимое 2" descr=""/>
          <p:cNvPicPr/>
          <p:nvPr/>
        </p:nvPicPr>
        <p:blipFill>
          <a:blip r:embed="rId1"/>
          <a:stretch/>
        </p:blipFill>
        <p:spPr>
          <a:xfrm>
            <a:off x="255600" y="1616040"/>
            <a:ext cx="8888400" cy="4907160"/>
          </a:xfrm>
          <a:prstGeom prst="rect">
            <a:avLst/>
          </a:prstGeom>
          <a:ln w="0">
            <a:noFill/>
          </a:ln>
        </p:spPr>
      </p:pic>
      <p:sp>
        <p:nvSpPr>
          <p:cNvPr id="127" name="Овал 3"/>
          <p:cNvSpPr/>
          <p:nvPr/>
        </p:nvSpPr>
        <p:spPr>
          <a:xfrm>
            <a:off x="8028000" y="2276640"/>
            <a:ext cx="865080" cy="93636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Овал 4"/>
          <p:cNvSpPr/>
          <p:nvPr/>
        </p:nvSpPr>
        <p:spPr>
          <a:xfrm>
            <a:off x="8028000" y="4005360"/>
            <a:ext cx="865080" cy="86508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Овал 5"/>
          <p:cNvSpPr/>
          <p:nvPr/>
        </p:nvSpPr>
        <p:spPr>
          <a:xfrm>
            <a:off x="8028000" y="5661000"/>
            <a:ext cx="914400" cy="863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4" descr="j0234131"/>
          <p:cNvPicPr/>
          <p:nvPr/>
        </p:nvPicPr>
        <p:blipFill>
          <a:blip r:embed="rId1"/>
          <a:stretch/>
        </p:blipFill>
        <p:spPr>
          <a:xfrm>
            <a:off x="6804000" y="0"/>
            <a:ext cx="2102040" cy="188424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50920" y="691920"/>
            <a:ext cx="6624720" cy="13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r>
              <a:rPr b="1" lang="ru-RU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омашнее задание</a:t>
            </a:r>
            <a:br>
              <a:rPr sz="4800"/>
            </a:br>
            <a:br>
              <a:rPr sz="4800"/>
            </a:br>
            <a:r>
              <a:rPr b="1" lang="ru-RU" sz="4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РТ, с. 73, упр. 115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сточник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192240" y="1989000"/>
            <a:ext cx="517176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Долгожданный дан звонок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Начинается уро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Звуки с буквами пришл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Чтоб порядок наве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Внимание, девочки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Внимание, мальчики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Приготовьте ваши ручки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Разомните пальчи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Рисунок 1" descr=""/>
          <p:cNvPicPr/>
          <p:nvPr/>
        </p:nvPicPr>
        <p:blipFill>
          <a:blip r:embed="rId1"/>
          <a:stretch/>
        </p:blipFill>
        <p:spPr>
          <a:xfrm flipH="1">
            <a:off x="5627160" y="328680"/>
            <a:ext cx="2822760" cy="23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Box 1"/>
          <p:cNvSpPr/>
          <p:nvPr/>
        </p:nvSpPr>
        <p:spPr>
          <a:xfrm>
            <a:off x="2928960" y="571680"/>
            <a:ext cx="3786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Object 2"/>
          <p:cNvGraphicFramePr/>
          <p:nvPr/>
        </p:nvGraphicFramePr>
        <p:xfrm>
          <a:off x="1187280" y="549360"/>
          <a:ext cx="7401240" cy="49291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9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549360"/>
                    <a:ext cx="7401240" cy="492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" name="Прямоугольник 3"/>
          <p:cNvSpPr/>
          <p:nvPr/>
        </p:nvSpPr>
        <p:spPr>
          <a:xfrm>
            <a:off x="0" y="642960"/>
            <a:ext cx="982836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741240" indent="-741240"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41240" indent="-741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ebf1de"/>
                </a:solidFill>
                <a:latin typeface="Times New Roman"/>
                <a:ea typeface="MS Gothic"/>
              </a:rPr>
              <a:t>Семнадцатое март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41240" indent="-741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ebf1de"/>
                </a:solidFill>
                <a:latin typeface="Times New Roman"/>
                <a:ea typeface="MS Gothic"/>
              </a:rPr>
              <a:t>Кла</a:t>
            </a:r>
            <a:r>
              <a:rPr b="0" i="1" lang="ru-RU" sz="4000" spc="-1" strike="noStrike" u="sng">
                <a:solidFill>
                  <a:srgbClr val="ebf1de"/>
                </a:solidFill>
                <a:uFillTx/>
                <a:latin typeface="Times New Roman"/>
                <a:ea typeface="MS Gothic"/>
              </a:rPr>
              <a:t>сс</a:t>
            </a:r>
            <a:r>
              <a:rPr b="0" i="1" lang="ru-RU" sz="4000" spc="-1" strike="noStrike">
                <a:solidFill>
                  <a:srgbClr val="ebf1de"/>
                </a:solidFill>
                <a:latin typeface="Times New Roman"/>
                <a:ea typeface="MS Gothic"/>
              </a:rPr>
              <a:t>ная работа</a:t>
            </a:r>
            <a:r>
              <a:rPr b="0" i="1" lang="ru-RU" sz="4800" spc="-1" strike="noStrike">
                <a:solidFill>
                  <a:srgbClr val="ebf1de"/>
                </a:solidFill>
                <a:latin typeface="Times New Roman"/>
                <a:ea typeface="MS Gothic"/>
              </a:rPr>
              <a:t>.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741240" indent="-741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741240" indent="-741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Calibri"/>
                <a:ea typeface="MS Gothic"/>
              </a:rPr>
              <a:t>   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바탕"/>
                <a:ea typeface="바탕"/>
              </a:rPr>
              <a:t>Чистопис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5" descr=""/>
          <p:cNvPicPr/>
          <p:nvPr/>
        </p:nvPicPr>
        <p:blipFill>
          <a:blip r:embed="rId1"/>
          <a:stretch/>
        </p:blipFill>
        <p:spPr>
          <a:xfrm>
            <a:off x="108000" y="2690640"/>
            <a:ext cx="8961480" cy="15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Arial"/>
                <a:ea typeface="바탕"/>
              </a:rPr>
              <a:t>Словарная рабо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Загадк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Ветки белы, и лиловы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аромат весь день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Назовите одним словом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так цветёт - ...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25092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 </a:t>
            </a:r>
            <a:r>
              <a:rPr b="1" i="1" lang="ru-RU" sz="7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</a:t>
            </a:r>
            <a:r>
              <a:rPr b="1" i="1" lang="ru-RU" sz="7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и</a:t>
            </a:r>
            <a:r>
              <a:rPr b="1" i="1" lang="ru-RU" sz="7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р</a:t>
            </a:r>
            <a:r>
              <a:rPr b="1" i="1" lang="en-US" sz="7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é</a:t>
            </a:r>
            <a:r>
              <a:rPr b="1" i="1" lang="ru-RU" sz="7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нь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" descr="http://img1.liveinternet.ru/images/attach/c/7/98/663/98663709_0_816ee_8282d4bf_Ljpg.png"/>
          <p:cNvPicPr/>
          <p:nvPr/>
        </p:nvPicPr>
        <p:blipFill>
          <a:blip r:embed="rId1"/>
          <a:stretch/>
        </p:blipFill>
        <p:spPr>
          <a:xfrm>
            <a:off x="6300720" y="2176560"/>
            <a:ext cx="2519280" cy="42148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8" descr="http://static.diary.ru/userdir/6/7/5/0/675060/38383337.png"/>
          <p:cNvPicPr/>
          <p:nvPr/>
        </p:nvPicPr>
        <p:blipFill>
          <a:blip r:embed="rId2"/>
          <a:stretch/>
        </p:blipFill>
        <p:spPr>
          <a:xfrm>
            <a:off x="785880" y="2577960"/>
            <a:ext cx="3395520" cy="393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250920" y="115560"/>
            <a:ext cx="864216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орфологический разбо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Сирень</a:t>
            </a:r>
            <a:r>
              <a:rPr b="0" lang="ru-RU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–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имя сущ., неодуш., ед.ч., ж.р., И.п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Рисунок 5" descr="сирень 3"/>
          <p:cNvPicPr/>
          <p:nvPr/>
        </p:nvPicPr>
        <p:blipFill>
          <a:blip r:embed="rId1"/>
          <a:stretch/>
        </p:blipFill>
        <p:spPr>
          <a:xfrm>
            <a:off x="2651040" y="3376440"/>
            <a:ext cx="3335400" cy="1494000"/>
          </a:xfrm>
          <a:prstGeom prst="rect">
            <a:avLst/>
          </a:prstGeom>
          <a:ln w="0">
            <a:noFill/>
          </a:ln>
        </p:spPr>
      </p:pic>
      <p:sp>
        <p:nvSpPr>
          <p:cNvPr id="107" name="TextBox 1"/>
          <p:cNvSpPr/>
          <p:nvPr/>
        </p:nvSpPr>
        <p:spPr>
          <a:xfrm>
            <a:off x="230040" y="4968720"/>
            <a:ext cx="8641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Сирень</a:t>
            </a:r>
            <a:r>
              <a:rPr b="1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– крупный садовый кустарник семейства маслиновых с лиловыми, белыми или розовыми душистыми соцветия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Box 1"/>
          <p:cNvSpPr/>
          <p:nvPr/>
        </p:nvSpPr>
        <p:spPr>
          <a:xfrm>
            <a:off x="849600" y="1268280"/>
            <a:ext cx="7352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   </a:t>
            </a: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Запишите предложени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Нарисовать весенний куст сирен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Что сделать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Box 1"/>
          <p:cNvSpPr/>
          <p:nvPr/>
        </p:nvSpPr>
        <p:spPr>
          <a:xfrm>
            <a:off x="541800" y="4149720"/>
            <a:ext cx="824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imes New Roman"/>
                <a:ea typeface="바탕"/>
              </a:rPr>
              <a:t>Неопределённая форма глагол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1"/>
          <p:cNvSpPr/>
          <p:nvPr/>
        </p:nvSpPr>
        <p:spPr>
          <a:xfrm>
            <a:off x="2790720" y="1916280"/>
            <a:ext cx="374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ЧТО ДЕЛАТЬ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ЧТО СДЕЛАТЬ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5T12:24:06Z</dcterms:created>
  <dc:creator>Наташка</dc:creator>
  <dc:description/>
  <dc:language>en-US</dc:language>
  <cp:lastModifiedBy>вера</cp:lastModifiedBy>
  <dcterms:modified xsi:type="dcterms:W3CDTF">2014-09-21T15:24:54Z</dcterms:modified>
  <cp:revision>31</cp:revision>
  <dc:subject/>
  <dc:title>Слайд 1</dc:title>
</cp:coreProperties>
</file>